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start.wav" ContentType="audio/x-wav"/>
  <Override PartName="/ppt/media/image13.png" ContentType="image/png"/>
  <Override PartName="/ppt/media/image16.gif" ContentType="image/gif"/>
  <Override PartName="/ppt/media/image15.jpeg" ContentType="image/jpeg"/>
  <Override PartName="/ppt/media/image14.gif" ContentType="image/gif"/>
  <Override PartName="/ppt/media/image1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8E792-5F5F-43B3-8019-E3E2745435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65C69-618E-474E-B4F3-641CA127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D843D8-9309-4742-81BE-3011BF46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9C5C5C-64C1-49F3-89A4-E70F0449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45BF1A-0A83-4726-9972-BB455BD7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6C0B21-6B69-40E9-8291-DE20C293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F260CA-EA2E-4A2A-BAD8-A3321EC6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78E42C-99A8-4FF0-9D18-702FA04A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FAC11C-96CE-406A-8275-8440007F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96860A-23EF-45F6-B3F5-B957D40C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914928-5393-4A7B-8BB6-0067193F11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45238-1287-44C9-8099-97ABD70C9A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8E4CE-C0E3-4326-BC53-34D408CA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88699-B35B-4C0D-A305-14F058DC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1D359-D7E3-4643-946A-E03FC72F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6016C-14CE-4CD5-BF9C-6ECD7BB9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EDA13-15E4-42AE-BD02-481342EA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AD35D-7293-4EC5-9950-C8FB1EF6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C3882-B0D6-4ADF-BFDA-9F03ED46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75B47-5B7E-4217-A1E8-A01917C3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058B9-E077-4A4C-A876-A764522D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39F77-3745-4C74-AEF5-5EC97230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79411-5C64-4949-ABEF-82339CF7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ED334-A9E1-44F9-9D1A-8DD0A2AC84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409B8-04A2-4EA1-B985-97728A5DC7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7D7385-59F0-449B-A4BA-1018228B11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5D0BAB-5EC0-40C0-A589-8914590F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6C4699-7CE9-48E2-86AA-867A7AE3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95D9C8-C28E-4050-B9F8-6B435254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031422-9A92-4298-9C56-A046018D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0DA91D-D4D2-4BA2-B835-4BE044A8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337062-57BA-4928-86E1-B8899B6F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CCB10A-6369-48C4-9BE3-7FB652EB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FAB2A2-E831-4E4A-980A-D64C3D6B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E5706-23BF-4EF6-95DD-F001350C43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BCBF1B-559C-43A2-AE5E-9E65F733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0AFD20-28B2-493E-8458-67B14185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80CDAD-2D76-4970-B1BF-9B98FE7323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E935A-F936-4A1F-B09A-4A596EEF48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4E6FE8-A81F-4CBD-A57E-565D7C26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59F96-DC07-4F45-AD94-A76D58D5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8E1707-26AA-443B-B133-61A0ED0D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84A17E-B168-4E29-813D-AE835D7F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B363B-8EF9-48C2-8E94-4D6925F3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B99449-1762-4077-AFA5-286E877B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D2138-80CF-4577-841D-C2247A4F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56C1A-7CD9-4E65-A31C-EA8BA02C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A81FC-9EEE-4C90-BBE1-D760B9B4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3BBF5-B7B1-482B-9226-5B34299C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CEE2A3-9D27-48A2-BF69-82214859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7F75C-922A-4325-8E82-5BAC216B84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AA526-96ED-4B9D-9F63-460DE2F091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7B9D5-E9EF-45BC-889E-484C4C7A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E093F-C7F8-4D94-84DE-EE30ACC7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785C6-5B03-44E2-94C7-87EE4194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71CB6-5529-421C-9847-0A8D5FBD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E6678-312C-4952-8594-13C3AA12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B883C-2902-485D-9F7C-BBF75D74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BEE19-3C11-4699-9F57-B0D39EBC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436C3-F16F-4A0D-956D-E6DA5393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690A6-72A8-43F6-821D-437637A9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D1AD9-9CE3-4106-B31B-8D21EB5A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67704-FB64-4DA1-A9C4-0FE7A8DD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F73C1-239D-4F7D-AAEF-E14293D23F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309A93-18E1-4F0B-B9F6-247EC414FC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204827-6C3F-4886-8AB9-2A57D619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FADD34-EC30-402B-9F17-9E57BAFD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A7659-EAA0-466C-9226-58811220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DFD36A-5DB2-42A3-B534-97189C09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E84BBA-AA02-4315-8E9C-A4D3B386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0931A1-9A5C-4EDD-A84D-ACB47415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7B6474-23FE-48BF-A4A1-2A9CDC8B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FFB3A0-F88E-4DD0-954A-893A21B8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1390EE-855B-4D4D-9C86-D529FCA8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43ECE2-1AD9-4D44-A725-AAC7F2E8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84455F-B2EF-48D2-8C8F-511FC12C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8965BD-D078-42C4-86E3-B5E0BBBB6C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38BD28-20C9-472B-956B-B45BD25E77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3AEC6-5F57-4699-BB97-CDDFE871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3DCED5-E86B-4F72-9B11-87A23A25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2EB1D7-05F4-4C33-9554-95F51FE8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D619A8-50E0-4A76-9A01-FDA4F643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F65C36-FA50-443B-A2B0-BDF5EC71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549BA6-EBDA-4960-ACAF-0288E4C3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8A663F-CBAA-4A78-AAC6-7FB769D9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479F4A-6411-4C40-9784-A8DC5754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D627D6-BAD0-48D6-8AEA-D25A1D64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DF361F-3A7F-4B7E-B13F-56FA3A3A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5BFEB4-1FAE-463B-96C0-59261B02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4D0F8-9439-4437-891A-4F20C19B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DC4826-DE96-4FA1-A4BA-4B1B0AFA5A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F1D84-C3B9-4A03-87E9-945F5D6FF3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22CB4-201E-4B3F-A925-B8BA77F2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58774-1280-4A58-B080-1A14F6F3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9381E-FA78-4980-9E09-C9AFF43C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655B8-04CA-49BC-B1F2-8F104A0C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DF73D-BF7B-4EBB-92C1-B4421012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0468C-7494-4D7E-8D7C-D7359784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D2602-B488-4934-941A-C7D7DE72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03398-58E9-4AE6-A831-B9DA7CCE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6CE47-DE41-4B5E-BD2A-820297EE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C5EEC-FDA7-4FB0-B776-7815F918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7940B-3C83-4257-B627-1B318CFF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733A7-E86D-4144-9811-305A998A91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9F5170-FE21-4DE6-8C8E-44EF6DB60A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0F4546-C142-4917-8F94-15D3605F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789CC1-134E-4B88-8F53-FB07A96B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42AEFB-72CE-4D95-9D3F-7F343A82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77226D-910D-40C2-AF8F-31822F7A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9E5313-AB09-4252-80E2-B9C0EF4C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F035D5-2E4B-4D3C-8FB0-ABB5A129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05312-BE83-4405-A178-E1FB0BBD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91AC2-7420-426D-865C-2920B0A9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9CE5DC-4C9B-412D-B21B-62F2D11D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C69CA0-14DB-4557-BF84-CFEEF563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F5C5EF-D0AB-4A56-800D-2B8DA3FE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E799A2-31A5-4972-AF2C-5A99133C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E38218-0D55-47C5-9B04-4F639A576E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5362C0-EFC5-4AA2-B57D-57786E15BD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73124D5-B03D-430D-8FB8-2BA7D912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D6B5E8-B88A-487C-8867-D88E3D71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7D432C-8F48-4CCC-8D20-30E6B68A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6EC740-8761-466A-A83E-4359AC15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6034B-7591-4360-AE39-E8BB70E5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2DC968-4E38-495D-B837-43653720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72357C-C13C-4682-B230-1053FCED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A1DB73-40A5-422B-A126-7A985DE0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B80A4E5-F0A7-4028-BAD5-9028A552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415736-ADA7-4466-A8BE-00214311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7D9CFD-FF8A-4785-A9E8-846DF060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240863-9811-4882-95D7-E550F6805B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1C58D0-C7FB-4638-8566-C9052E238F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EDB1F9-C7B9-4FAD-A131-38CE89B0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B04CC6-8096-4E3D-88F1-F99B62AF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72210-88D4-4688-AE6B-A16A1275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52BD0-5AA4-4CD4-99FD-6D88B579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DA895-39B6-4DDF-A488-81E76B90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B9324-29EB-43F5-8967-3ECA058B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2DE6F-B5AA-43E0-957C-00734627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2CADC-490F-4435-B3D6-A358E2D1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903E2F-4F94-4335-A678-B0137AC6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8C1AC3-B2F8-4EBD-9AED-509271DB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F7DEC-25F4-4B7A-AF85-AF4E1F89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05A9C-C59C-4846-8EC9-8B50E2A021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680505-357E-4E4A-A01F-FA5BA01798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8C4B9-2EFC-4A7C-B88C-25A53EB4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51296C-55F7-4E87-A8EB-4E41DE33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17E234-7B59-4B50-BA47-A73E94D2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43885E-4DA0-48AB-8A08-75B7F229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5794CC-4BB7-4BCD-955F-DA85B4CF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CE84B20-2A7C-4354-B0EB-59936E83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76631B8-4B1E-4B1C-9335-7E8A8C56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6EB846-D602-420B-ABBD-E1DB1686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B55E76B-5AC2-4381-BCAF-E960F31F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76B580-1B90-4FE2-8684-314434ED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17A003-E557-4ACC-A90D-6E50B2A0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DD348-76D5-404E-8EB3-6C14FD569B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B805C8-2C23-4BB4-A4FF-FBC5A62C62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4F46C54-082F-4E9B-A092-A8182C036B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C9BFC23-43F3-410B-95BA-61CD1B1F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425E5D4-4E8F-48DE-96A2-8B032EB4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6A3FE42-55E7-423C-850F-3E26C57F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B1BBCB1-4D0C-415F-AA2B-0B0EBD38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C1710FB-CE4F-4594-8D55-A48D48D1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6949DC9-CF71-43C2-AFAD-DD1580A3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25E0D25-4250-4D1E-9ACA-EABB2E2F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B6A73E6-6CAB-4AB6-AD03-6E87B320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DC5BB4-9FBC-40F8-AE1F-E9251597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D8C23D5-4C3A-4E5A-8FE1-4A8F3983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78F9E63-BC95-46D7-90B9-3066C198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F13E49-6A12-4B07-B72B-D5195CFFC2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C10F4E-EFB8-49EC-BDBC-A775C9C40A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81272C-A19A-4F3B-877F-FA44C48D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FB960B-4FC9-4689-B91A-904DB366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33824D-C65D-4585-84A6-9B38ABCE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F8A5D4-C698-4732-93A2-E54ACE47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E61F68-3D03-41EF-AA54-56114111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0756C5-A99C-4776-A570-70985309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893D1E-D928-4530-8B7C-8A8BE718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121809-F1FE-4F7C-91C1-EBDF7466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7A1192-8A01-46E1-A854-F1A20996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63B403-41A4-424C-8E36-90E80BC6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E53B98-BC0C-405D-9C08-55405E0D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263FD-DF85-4358-B78D-46BC83547C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340A46-2CD5-4139-899F-CB6F9DB6FA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E157BBD-AD3A-4D94-A816-72FBFB14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FCBE6D0-16C7-4EAD-824E-9ED76640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7505229-7CD2-451A-B0E3-687AD1EF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CF591C1-D739-4FB8-B2E3-AACA07D6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4547E5-D133-4CC1-ADE4-2AAB1E70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E8825FB-5ACE-4EF7-9C5C-CA36F8CC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43EAE53-6CAB-43FC-83E8-83DBDA10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5F99790-A0BB-4493-9600-181B3C55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9CD807E-1231-4952-8637-8D45A2A0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EE16AAC-A83A-43B8-9A20-47ABA356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9894990-C2FA-41BE-A033-08AC8A36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41D6CD5-4BEC-4736-8502-6112DB9000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07C0BDA-25CC-4811-A77D-A4E99C1DF5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7092B76-25EC-4152-A971-FB4AE6D4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C780E92-FB3A-4FBA-AD1F-5BEC7EC1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B82403-A3A7-490C-B272-3AAEC19A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B18E964-74A7-497F-B11C-C781803B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1A4941E-AF59-4ADA-B862-86D040D4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044DA52-F6DE-4A8A-A53F-27B5FD44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F7D9F06-9475-466E-B9EE-9E85CF17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BCB1417-8E08-42BA-B162-D919BFF7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504A0E6-EF6C-4788-A9F0-5A3BB4AE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7474F2C-27C0-4CBA-80C2-60C78FE7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3B0FE21-4871-4140-9225-C4BFE7B8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CC7515E-248D-47DA-82EC-2D97235116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D9A5A3-D051-48C6-8517-54DA624747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BBA0C0-D3E8-4A6B-8EBF-B1564D51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B03817-3F52-47B2-A88A-20089717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A14BBD-3D83-4BC3-9012-07D402DA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2CBF74-D25D-488F-BD44-E909C15C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5A3613-1D1D-4E0B-A025-B9D2E9E0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1844B1-8AC9-4D62-93F6-DDFA967B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AA826B-BD5E-43ED-80CD-5023A8B7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722826-28FF-4EC7-AD29-A280A2A8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52EA53-296F-41C4-917B-DF755612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1E453A-66FA-43F1-9102-6A34FB00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D21762-E8E2-4B8E-B377-3BBD10D0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30AD1-4DDC-4326-B684-C9914D3F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8E38DC-7858-4BDA-994D-9F233BD4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531882-724E-478E-9A1D-25F8B02E50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0D1C75-1D06-496A-A7A4-ECDDC30F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39270D-E5D1-4C18-892F-55FE8576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CDB7A2-735D-44FD-B1C7-B001B400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62F927-7A8D-4F41-9E03-BB367611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BB9535-60D7-4540-949B-5D6D5330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C91316-3486-4E86-9643-DBE61E34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6E874A-8125-4D5A-9C09-C6E798C8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A5C667-8ACB-4EA0-9A67-F2D2240E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E22593-6C61-485E-99E1-391AFF65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0D24EC-2D59-49C7-ADEE-2A2DF185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2AE3AE-1C41-43D9-A11A-DDF2BCFE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6592FC-E45A-493C-A7E1-FD9AD170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24A1C3-3E09-4776-8C4E-394BFF66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4D3192-B8FB-4066-89C9-667504D7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DE7629-D987-49BA-9E64-33C67179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78C69F-6903-4306-BC6A-FC4936E1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A26EF5-0B70-4254-8A1E-84A6B76D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36B144-C83F-4E47-BE23-50B0D3D5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9B10EC-2FC5-4120-9B53-F5D66F2D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2101AE-4FFA-43E1-BD62-91AAB890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F9392B-4D33-4FD7-AA83-C0ADDAF3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F15778-C51E-4DCB-9C23-080A140E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9DBE59-B729-41E0-B44E-63BDD5F3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BD9848-33B1-4FB9-9326-4E8A1189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D00C89-1974-4974-847F-A3758E35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56E5C4-FA39-4CE8-892F-902A4B9E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FB4927-1149-49C4-9EDC-04FDF657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38DA64-68F3-4326-BD65-4970DD54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471E1E-0381-48A4-8E9C-800662C9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E60E86-059E-400D-83E1-F96228ED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D6FD5C-E0AC-4032-83DE-6D1273F4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3E322F-3719-4032-91EF-09E3F0D4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06C0FF-002A-427D-B9F3-C575DAD8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4ED7B8-9854-47C9-9F37-F508A6C0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CD2516-1EFB-4E35-A4F7-34BE489F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0137EF-8EA9-4F4D-8E4E-4DA0E378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9A7451-82FC-4F51-88D5-9F8D495E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F182E0-05C3-421D-8BE3-95522A24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AD2150-990E-44BE-BDE1-CCAC4856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FD0B5F-1EF7-4A42-B7F7-DF80FA4A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7167F9-778B-4B99-A63F-7EAE9C4C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651DB5-D6A2-46A4-A8E5-0EE5CCAB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1F679A-61B6-4C04-8916-132E83BF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9E50C2-88F8-4F10-9E0D-164D2856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E7E197-0E7D-408C-B034-5F520558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162D5A-3893-4579-8A1A-483E771A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2DFE75-4DDE-4F46-9C3E-E97C4839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2FF984-15D4-41B0-A13D-913B9E1A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8B1EA8-9126-41D1-8BCB-0C85A81C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084E74-C908-47D9-AA75-D5B6118B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075C97-1F03-4559-B612-090D9CE5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98C5D4-1584-4242-A595-DE0C28F7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C017F9-D7B9-4436-A640-666431E6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0DE6B0-7845-44FB-82DF-B8551262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1CB793-6174-4BE0-BD59-3FFE63EF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051582-0892-4C0F-B900-6813491C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46BB2C-BD82-4A52-B769-A0C61DA0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85E3B1-5ACA-4C83-B331-15B93B8A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55A25C-5B23-4CA6-84EC-AFB861F3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C19DCA-9040-4D7A-AA17-DE2AEA6B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4AD4C1-7CC9-442F-A500-5BA92BD3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DF36D7-F9B5-4557-BF80-3E5D9E72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AF545C-9A1F-4876-A760-7CEF5B4A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4ED6CE-3488-4102-AB30-6235E2C0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0027BA-0B6C-4AC7-BA7C-0A46860B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605E6A-4CDA-49FD-9D69-A77CCCAB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32BFEF-E655-49F7-B242-966B56EB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EF156F-40AB-4F85-AA0B-2FD729DD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C1DB4A-BB9C-45F1-8E42-B92E6DB9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6FAAAE-EC61-487E-8E28-A7B2E0A8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CEFF7C-9C68-4303-86E7-901257FC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B6AA0F-7AB8-4D65-A756-4BD95BF7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5DABA7-C1BC-48FA-893A-5AA484F0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93D8D6-CBE3-4EF7-8636-1BACB9C1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127818-510C-41A6-9C42-7AC72227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CBD5B-AAC4-4609-AA64-7F1C8F3A0F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6D4B04-D0D7-473C-8256-FC6A00FF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6258C6-7A13-45EE-951A-709FD8D2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8E55D6-E4E0-497D-9BE6-1CF10A39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B1E8FD-3EF7-43AE-9CF6-2857CEA3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0F3C1C-9C4D-4304-84A0-B07E4549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06C486-3F06-4BB9-8131-6620F101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850D97-CB7B-4EE1-BF85-41F8BD16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8E4A30-42D9-4352-A123-1DAA1594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D864D3-B72D-4947-A009-367AC2E7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787E13-6F8D-4DAA-B100-4768F0B3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40440-D3CF-42F2-B965-1C8D8BFA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610349-763A-4D82-92B7-717CCEB6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C3AB37-6B3E-424E-BBA5-0AACD419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C9849C-1475-4EF2-BC1B-AAE03821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C98DB3-E9F1-4873-A658-49C8B3B5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2B1540-173E-4BB8-8B17-0D6A130D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CA3B43-4148-4768-9C2C-ED025484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48A928-930A-485F-B881-E570628E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C88594-958B-4B45-9464-624A2396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3FD8FB-5F67-4E80-9412-07838213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E7BF3A-126A-4C6B-9C1A-0AF06FDE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8AAF3-2CBD-4264-8FA9-3D040269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E0BB1A-2511-4FA7-BCFC-2A71F231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1B2F76-C53F-44BF-B838-DC58EB16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16062C-8A0F-4FBA-B4D3-D39C08B7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A52AC2-3F3B-46AF-8AFF-A4C04C1A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8F6609-E8BF-4ACC-B95C-7FE9667F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4A8434-4F08-402A-A25C-8F6D13E6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4E24F3-2D2F-44BB-8375-FA393115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7B1BBA-3919-4F83-A213-70154AE3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F35ADD-A806-4771-8E24-38F9A90B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8F48B3-53CD-434B-BF9A-1B5F623A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20FC4-D8BF-4929-9252-5E348D2D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69A43-3050-4964-9586-AFBB9EF9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316B52-7653-40DE-8D2B-345DC8B2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D5AF4B-EF62-4436-94B3-6063102C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84ECAD-F885-4440-93AA-E76ECB7D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90FF70-D0D3-46A5-8985-8A73C185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21878F-6B94-4515-BE64-EF9D8AA7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A05F2D-9669-4313-9DA4-33B8C0F1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A59CCB-5F5E-4726-BCAB-08A063F1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7A938E-CAA9-4A07-88C5-41F6A18F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829EA7-B7A5-4411-AAC6-6E618DC4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F44F58-C177-447D-9B64-FFD47239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F31AA-3468-4233-BCDA-C1F0403A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8E7F3C-358A-4461-AF35-5ECF89B5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95F21F-97A9-40D4-B470-5DC1409B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F3E0A6-D6CC-4CFA-9C07-36E16491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D8ADF2-D633-4C51-A904-74958CBD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341C6E-82F1-40E8-8E70-78934B80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D36181-93C3-4007-BEDB-9364B5D5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240A26-ADD2-4FD9-B391-8696627C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3300F4-04A3-4397-AE78-430236F4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486A45-91A3-4149-9DE0-C58D1E2C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5D5E20-8EF9-4477-B27F-DA948BBB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B36D0-874F-4FD5-88CD-AFB9EA55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4B5F21-92B9-4848-8578-E3AA4AC0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872D0D-801C-4596-8616-9965F074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135190-04F7-4B62-99D8-4E98D108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2F99D2-E869-404B-886B-A5EBD4F0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833E13-4256-479F-84B4-E412ABBB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2C5511-7E44-41BC-84DF-60927434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70DF23-A459-4E1A-B179-306B2EC2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6BAC46-02CC-4727-AB74-AF847E53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53D0C1-B147-4EBF-BBEE-7B9DF67E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B92A95-EBCC-49DC-ABF9-8EE27F96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BB31A-12DE-434E-A5FE-062CCD36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DB2F7D-5CCC-4BD0-8321-C3B55B45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118FCC-7451-451C-8B13-4B27A1C1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BD8CF8-4078-483C-BEE2-004A95AB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4CDD7-CE54-44D7-BB3D-B057F1FA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63C3B-21EC-4CA2-96C3-B15D1B04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FA186-BF5D-4543-AE93-07D54D6B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6687C-EDE2-4DED-95B1-E9E3BA78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4C7B2-B3CA-4965-8836-AA19305D63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2B1E36-3463-4BB0-9068-C24AFAB8F5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05094-0EDF-4B02-AC8E-1119FF48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47C7D1-BFB3-4657-B265-40C49EA1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2B9881-7695-446C-9D10-3398401B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0E600-C7BA-40EB-B8DA-7641CA98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7227C8-B644-4324-9119-8693D0EA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63FB28-CB20-4E07-886E-9F920077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48F5E4-52AF-4F7F-8420-601F61DB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324B1E-0DCC-455C-8A01-2DB8283A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F563EF-AA02-4BA4-886E-FD8F4FD5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E16E90-3FFE-41E8-893E-74AE0B9F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E00E54-E156-4EEC-B6E8-9E087411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255DE-48F7-4B09-8FCD-1470FF69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C503D3-273C-4215-949E-D03470B807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2BD46A-2C7B-4E69-BCBE-18BA8A981C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9A35CC-3764-4E48-AB3D-A573D9A1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3E4BBC-9B75-4EF2-AAD2-1283A972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BF2F35-B9F7-4724-B4EC-480410B2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B8CCD7-32F0-4EE5-9DB2-E4092DC6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250A51-6E50-4151-B6B8-A293A829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A176FC-CDA5-4167-AC56-248EE7BE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D56A8C-DF55-498E-A31B-7B75E6EF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E0274D-FB7B-4B5E-8893-A7F8C8BB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B40C5-515A-4EB7-AE2E-88DA4D68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99FE5D-E87A-4E26-A38C-B99B79FB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672AF3-5DA8-45AE-A8C3-BC46A28C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1A9EB5-4196-4B6C-B349-C41CA03D67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51C39-7096-4AEE-8175-BD25F4ACF6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16177-9BD3-49DE-8F03-C8BCAC65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FB39F-8918-489C-A433-349D74F0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A0F0D-68B3-4290-B157-2912D34B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8DB76-6535-4229-8141-5348113B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69DA8-D380-4DF2-AD54-837DD8BB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78612-F54A-4DCD-AEDE-69CD3C17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32965-DAB8-4A6F-89FA-D3958645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E00A1-69C6-4564-866A-4BDC581D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1CB7A-9FDF-4022-B95E-A62F1865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90EB4-EDA7-4561-803D-403ABE03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E8241-52A2-47DB-A93B-2CA89410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1727B-7CE2-4079-934D-07F6CA0358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322305-E4AE-4F46-B455-55B66C256B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DA92F9-E8BD-444F-8922-C06BB9B5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12F7EC-3F11-4385-A4DC-CCE95D20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55BD59-A452-4AFC-8B06-935AA9DB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7C8D04-0BA3-46AA-9058-FDFEFDBD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10F80-FE15-4A70-AD96-D431341B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A8AFB-502F-4EA9-9A36-AA68B3E1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3D1593-264C-4E9B-BCDA-2BA01309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4F3EA2-DA97-4A67-A176-ED532F7E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87A8A7-2282-4D6E-94C9-6D0B849B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E353A4-73A3-4F6C-9C87-A98576F3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85F003-1FD9-48C8-A2C5-1050D5C4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D326D0-BF7F-4EFD-ABC4-548A015C98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2E078D-3465-4C0D-A13D-3B50DC8422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3C5B64-1A40-4036-88A3-0220DE26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0D3347-A691-4026-A08C-D416FAAC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174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174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174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174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174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175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175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F662-3FBD-4091-9B7C-0099AA75F54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C154-0630-4C71-9568-26C22AD90D4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E027-C989-4142-9965-FBE20387717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0783-AA47-4D49-9E6C-1C1F1115D3F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9BA0-106F-433D-90BA-5A3957AAC1E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B079-1675-4498-92B3-4C270A0B6FA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7711-8C36-4C84-9433-EECD593AC29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0BFA-6CB9-47BF-A378-E6AAD4EB33C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3E72-0601-45B9-99F3-47000E0B205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5890-FFE2-40D3-B680-07988B7767F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4AC1-D16A-45AD-B7C9-A7C14F2A197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B6EF-758E-4695-A41C-F0F98CA0F46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033E-8119-4E25-B156-EB83F94400B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EA66-7100-4F35-9461-E0ACCC16AB6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F113-8570-498E-9899-9ED47F357E6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DDC8-A9AB-4AD1-A1CA-592AD1AFE99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C2C3-1A95-48A6-BE6D-CAC251A0B9D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06E5-3BF9-475C-9722-2927C045195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5A1A-3060-475C-B913-1972FF77C0A6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15AE-B8D6-43F9-B47F-8913771AAE5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3449-4BDF-43A4-A98F-51CC09A5B4AE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EBC2-63A1-4051-B5C5-4AA24A6F7D9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DC2F-B591-4577-9C18-DEE565D5750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218F-2625-441B-9ADE-D55F38092037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02FC-707C-4DD3-B0A2-A9077EC14E1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E470-149D-4254-8F30-7864101E6E36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4001-D22A-40FD-BB53-16A673ECAB0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A22C-68D3-4AF8-A3CD-7D93D15810AE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2B7D-C913-4BB9-A688-AFEB78C0F35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7A67-024E-4519-BA7B-F55B4F0F314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276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277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277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277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277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277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277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9397-686E-4B4E-BF54-E46F59730D7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31AD-1D2B-4375-B29D-F923E4CAECB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7915-4FC5-4007-8CD8-C7DEDED7B3B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8EFA-1504-4841-A72D-36B95AACC61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F67F-456E-432C-AEF1-61D8A679DB1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0FB3-6EBC-4166-A524-9820B732A91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7649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7650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2195640" y="620640"/>
            <a:ext cx="53989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华文彩云"/>
                <a:ea typeface="宋体"/>
              </a:rPr>
              <a:t>圆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1258920" y="2565360"/>
            <a:ext cx="38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圆的面积（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1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2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573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574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575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576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577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578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579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580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、复习旧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5" name="Rectangle 3"/>
          <p:cNvSpPr/>
          <p:nvPr/>
        </p:nvSpPr>
        <p:spPr>
          <a:xfrm>
            <a:off x="817560" y="1268280"/>
            <a:ext cx="7786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cc0000"/>
                </a:solidFill>
                <a:uFillTx/>
                <a:latin typeface="宋体"/>
                <a:ea typeface="宋体"/>
              </a:rPr>
              <a:t>     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个圆的周长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.56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求它的半径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个圆形茶几面的半径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d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它的面积是多少平方分米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6" name="TextBox 1"/>
          <p:cNvSpPr/>
          <p:nvPr/>
        </p:nvSpPr>
        <p:spPr>
          <a:xfrm>
            <a:off x="2268360" y="301608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2.56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.14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cm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7" name="TextBox 4"/>
          <p:cNvSpPr/>
          <p:nvPr/>
        </p:nvSpPr>
        <p:spPr>
          <a:xfrm>
            <a:off x="2340000" y="46134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.14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²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8.26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dm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8" name="矩形 19461"/>
          <p:cNvSpPr/>
          <p:nvPr/>
        </p:nvSpPr>
        <p:spPr>
          <a:xfrm>
            <a:off x="2063520" y="34653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9" name="矩形 19462"/>
          <p:cNvSpPr/>
          <p:nvPr/>
        </p:nvSpPr>
        <p:spPr>
          <a:xfrm>
            <a:off x="2279520" y="36813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1" name="TextBox 2"/>
          <p:cNvSpPr/>
          <p:nvPr/>
        </p:nvSpPr>
        <p:spPr>
          <a:xfrm>
            <a:off x="1332000" y="4354560"/>
            <a:ext cx="69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中国建筑中经常能见到“外方内圆”和“外圆内方”的设计。上图中的两个圆半径都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你能求出正方形和圆之间部分的面积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92" name="组合 20483"/>
          <p:cNvGrpSpPr/>
          <p:nvPr/>
        </p:nvGrpSpPr>
        <p:grpSpPr>
          <a:xfrm>
            <a:off x="1692360" y="1844640"/>
            <a:ext cx="5184720" cy="2232000"/>
            <a:chOff x="1692360" y="1844640"/>
            <a:chExt cx="5184720" cy="2232000"/>
          </a:xfrm>
        </p:grpSpPr>
        <p:pic>
          <p:nvPicPr>
            <p:cNvPr id="1493" name="图片 20484" descr="65"/>
            <p:cNvPicPr/>
            <p:nvPr/>
          </p:nvPicPr>
          <p:blipFill>
            <a:blip r:embed="rId1"/>
            <a:stretch/>
          </p:blipFill>
          <p:spPr>
            <a:xfrm>
              <a:off x="1692360" y="1844640"/>
              <a:ext cx="2220840" cy="21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图片 20485" descr="66"/>
            <p:cNvPicPr/>
            <p:nvPr/>
          </p:nvPicPr>
          <p:blipFill>
            <a:blip r:embed="rId2"/>
            <a:stretch/>
          </p:blipFill>
          <p:spPr>
            <a:xfrm>
              <a:off x="4710240" y="1916280"/>
              <a:ext cx="2166840" cy="21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5" name="矩形 20486"/>
          <p:cNvSpPr/>
          <p:nvPr/>
        </p:nvSpPr>
        <p:spPr>
          <a:xfrm>
            <a:off x="487080" y="436572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97" name="组合 21506"/>
          <p:cNvGrpSpPr/>
          <p:nvPr/>
        </p:nvGrpSpPr>
        <p:grpSpPr>
          <a:xfrm>
            <a:off x="789120" y="1628640"/>
            <a:ext cx="3490920" cy="1440000"/>
            <a:chOff x="789120" y="1628640"/>
            <a:chExt cx="3490920" cy="1440000"/>
          </a:xfrm>
        </p:grpSpPr>
        <p:pic>
          <p:nvPicPr>
            <p:cNvPr id="1498" name="图片 21507" descr="65"/>
            <p:cNvPicPr/>
            <p:nvPr/>
          </p:nvPicPr>
          <p:blipFill>
            <a:blip r:embed="rId1"/>
            <a:stretch/>
          </p:blipFill>
          <p:spPr>
            <a:xfrm>
              <a:off x="789120" y="1628640"/>
              <a:ext cx="14792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9" name="图片 21508" descr="66"/>
            <p:cNvPicPr/>
            <p:nvPr/>
          </p:nvPicPr>
          <p:blipFill>
            <a:blip r:embed="rId2"/>
            <a:stretch/>
          </p:blipFill>
          <p:spPr>
            <a:xfrm>
              <a:off x="2836800" y="1628640"/>
              <a:ext cx="1443240" cy="14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0" name="组合 21509"/>
          <p:cNvGrpSpPr/>
          <p:nvPr/>
        </p:nvGrpSpPr>
        <p:grpSpPr>
          <a:xfrm>
            <a:off x="4932360" y="1989000"/>
            <a:ext cx="3828600" cy="1279800"/>
            <a:chOff x="4932360" y="1989000"/>
            <a:chExt cx="3828600" cy="1279800"/>
          </a:xfrm>
        </p:grpSpPr>
        <p:pic>
          <p:nvPicPr>
            <p:cNvPr id="1501" name="Picture 16" descr="女天使"/>
            <p:cNvPicPr/>
            <p:nvPr/>
          </p:nvPicPr>
          <p:blipFill>
            <a:blip r:embed="rId3"/>
            <a:stretch/>
          </p:blipFill>
          <p:spPr>
            <a:xfrm>
              <a:off x="7237080" y="1989000"/>
              <a:ext cx="1523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2" name="AutoShape 27"/>
            <p:cNvSpPr/>
            <p:nvPr/>
          </p:nvSpPr>
          <p:spPr>
            <a:xfrm>
              <a:off x="4932360" y="2133720"/>
              <a:ext cx="2273040" cy="936360"/>
            </a:xfrm>
            <a:prstGeom prst="wedgeRoundRectCallout">
              <a:avLst>
                <a:gd name="adj1" fmla="val 59425"/>
                <a:gd name="adj2" fmla="val 276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题目中都告诉了我们什么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03" name="组合 21512"/>
          <p:cNvGrpSpPr/>
          <p:nvPr/>
        </p:nvGrpSpPr>
        <p:grpSpPr>
          <a:xfrm>
            <a:off x="324000" y="3213000"/>
            <a:ext cx="4733640" cy="1800360"/>
            <a:chOff x="324000" y="3213000"/>
            <a:chExt cx="4733640" cy="1800360"/>
          </a:xfrm>
        </p:grpSpPr>
        <p:sp>
          <p:nvSpPr>
            <p:cNvPr id="1504" name="AutoShape 27"/>
            <p:cNvSpPr/>
            <p:nvPr/>
          </p:nvSpPr>
          <p:spPr>
            <a:xfrm>
              <a:off x="1692360" y="3213000"/>
              <a:ext cx="3365280" cy="1305000"/>
            </a:xfrm>
            <a:prstGeom prst="wedgeRoundRectCallout">
              <a:avLst>
                <a:gd name="adj1" fmla="val -56745"/>
                <a:gd name="adj2" fmla="val -377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上图中两个圆的半径都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，怎样求正方形和圆之间部分的面积呢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05" name="图片 21514" descr="67"/>
            <p:cNvPicPr/>
            <p:nvPr/>
          </p:nvPicPr>
          <p:blipFill>
            <a:blip r:embed="rId4"/>
            <a:stretch/>
          </p:blipFill>
          <p:spPr>
            <a:xfrm>
              <a:off x="324000" y="3213000"/>
              <a:ext cx="112212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6" name="组合 21515"/>
          <p:cNvGrpSpPr/>
          <p:nvPr/>
        </p:nvGrpSpPr>
        <p:grpSpPr>
          <a:xfrm>
            <a:off x="2987640" y="4653000"/>
            <a:ext cx="5230800" cy="1798560"/>
            <a:chOff x="2987640" y="4653000"/>
            <a:chExt cx="5230800" cy="1798560"/>
          </a:xfrm>
        </p:grpSpPr>
        <p:sp>
          <p:nvSpPr>
            <p:cNvPr id="1507" name="AutoShape 27"/>
            <p:cNvSpPr/>
            <p:nvPr/>
          </p:nvSpPr>
          <p:spPr>
            <a:xfrm>
              <a:off x="2987640" y="4795920"/>
              <a:ext cx="3419280" cy="1008000"/>
            </a:xfrm>
            <a:prstGeom prst="wedgeRoundRectCallout">
              <a:avLst>
                <a:gd name="adj1" fmla="val 56268"/>
                <a:gd name="adj2" fmla="val -52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左图求的是正方形比圆多的面积，右图求的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……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08" name="图片 21517" descr="68"/>
            <p:cNvPicPr/>
            <p:nvPr/>
          </p:nvPicPr>
          <p:blipFill>
            <a:blip r:embed="rId5"/>
            <a:stretch/>
          </p:blipFill>
          <p:spPr>
            <a:xfrm>
              <a:off x="6588000" y="4653000"/>
              <a:ext cx="1630440" cy="1798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0" name="TextBox 34"/>
          <p:cNvSpPr/>
          <p:nvPr/>
        </p:nvSpPr>
        <p:spPr>
          <a:xfrm>
            <a:off x="2460600" y="4508640"/>
            <a:ext cx="275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从图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可以看出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×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1" name="TextBox 35"/>
          <p:cNvSpPr/>
          <p:nvPr/>
        </p:nvSpPr>
        <p:spPr>
          <a:xfrm>
            <a:off x="2460600" y="6053040"/>
            <a:ext cx="26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1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86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2" name="TextBox 36"/>
          <p:cNvSpPr/>
          <p:nvPr/>
        </p:nvSpPr>
        <p:spPr>
          <a:xfrm>
            <a:off x="2460600" y="5549760"/>
            <a:ext cx="33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14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²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1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13" name="组合 22533"/>
          <p:cNvGrpSpPr/>
          <p:nvPr/>
        </p:nvGrpSpPr>
        <p:grpSpPr>
          <a:xfrm>
            <a:off x="539640" y="1557360"/>
            <a:ext cx="4824360" cy="1279440"/>
            <a:chOff x="539640" y="1557360"/>
            <a:chExt cx="4824360" cy="1279440"/>
          </a:xfrm>
        </p:grpSpPr>
        <p:pic>
          <p:nvPicPr>
            <p:cNvPr id="1514" name="Picture 19" descr="女天使副本"/>
            <p:cNvPicPr/>
            <p:nvPr/>
          </p:nvPicPr>
          <p:blipFill>
            <a:blip r:embed="rId1"/>
            <a:stretch/>
          </p:blipFill>
          <p:spPr>
            <a:xfrm>
              <a:off x="539640" y="1557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AutoShape 27"/>
            <p:cNvSpPr/>
            <p:nvPr/>
          </p:nvSpPr>
          <p:spPr>
            <a:xfrm>
              <a:off x="2196720" y="1846080"/>
              <a:ext cx="3167280" cy="574920"/>
            </a:xfrm>
            <a:prstGeom prst="wedgeRoundRectCallout">
              <a:avLst>
                <a:gd name="adj1" fmla="val -58370"/>
                <a:gd name="adj2" fmla="val 5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你能解决这个问题吗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16" name="组合 22536"/>
          <p:cNvGrpSpPr/>
          <p:nvPr/>
        </p:nvGrpSpPr>
        <p:grpSpPr>
          <a:xfrm>
            <a:off x="6300720" y="2637000"/>
            <a:ext cx="1792080" cy="2232000"/>
            <a:chOff x="6300720" y="2637000"/>
            <a:chExt cx="1792080" cy="2232000"/>
          </a:xfrm>
        </p:grpSpPr>
        <p:pic>
          <p:nvPicPr>
            <p:cNvPr id="1517" name="图片 22537" descr="69"/>
            <p:cNvPicPr/>
            <p:nvPr/>
          </p:nvPicPr>
          <p:blipFill>
            <a:blip r:embed="rId2"/>
            <a:stretch/>
          </p:blipFill>
          <p:spPr>
            <a:xfrm>
              <a:off x="6300720" y="2637000"/>
              <a:ext cx="17920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8" name="文本框 22538"/>
            <p:cNvSpPr/>
            <p:nvPr/>
          </p:nvSpPr>
          <p:spPr>
            <a:xfrm>
              <a:off x="6584760" y="4470120"/>
              <a:ext cx="11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图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19" name="组合 22539"/>
          <p:cNvGrpSpPr/>
          <p:nvPr/>
        </p:nvGrpSpPr>
        <p:grpSpPr>
          <a:xfrm>
            <a:off x="684360" y="3068640"/>
            <a:ext cx="4733280" cy="1873080"/>
            <a:chOff x="684360" y="3068640"/>
            <a:chExt cx="4733280" cy="1873080"/>
          </a:xfrm>
        </p:grpSpPr>
        <p:sp>
          <p:nvSpPr>
            <p:cNvPr id="1520" name="AutoShape 27"/>
            <p:cNvSpPr/>
            <p:nvPr/>
          </p:nvSpPr>
          <p:spPr>
            <a:xfrm>
              <a:off x="2052360" y="3068640"/>
              <a:ext cx="3365280" cy="1008000"/>
            </a:xfrm>
            <a:prstGeom prst="wedgeRoundRectCallout">
              <a:avLst>
                <a:gd name="adj1" fmla="val -58726"/>
                <a:gd name="adj2" fmla="val 1740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右图中正方形的边长就是圆的直径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21" name="图片 22541" descr="67"/>
            <p:cNvPicPr/>
            <p:nvPr/>
          </p:nvPicPr>
          <p:blipFill>
            <a:blip r:embed="rId3"/>
            <a:stretch/>
          </p:blipFill>
          <p:spPr>
            <a:xfrm>
              <a:off x="684360" y="3141360"/>
              <a:ext cx="112212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2" name="矩形 22542"/>
          <p:cNvSpPr/>
          <p:nvPr/>
        </p:nvSpPr>
        <p:spPr>
          <a:xfrm>
            <a:off x="2063520" y="34653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4" name="TextBox 20"/>
          <p:cNvSpPr/>
          <p:nvPr/>
        </p:nvSpPr>
        <p:spPr>
          <a:xfrm>
            <a:off x="3635280" y="5229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1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1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5" name="TextBox 16"/>
          <p:cNvSpPr/>
          <p:nvPr/>
        </p:nvSpPr>
        <p:spPr>
          <a:xfrm>
            <a:off x="3522600" y="400536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从图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可以看出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26" name="组合 23556"/>
          <p:cNvGrpSpPr/>
          <p:nvPr/>
        </p:nvGrpSpPr>
        <p:grpSpPr>
          <a:xfrm>
            <a:off x="179280" y="1700280"/>
            <a:ext cx="4119480" cy="1873080"/>
            <a:chOff x="179280" y="1700280"/>
            <a:chExt cx="4119480" cy="1873080"/>
          </a:xfrm>
        </p:grpSpPr>
        <p:sp>
          <p:nvSpPr>
            <p:cNvPr id="1527" name="AutoShape 27"/>
            <p:cNvSpPr/>
            <p:nvPr/>
          </p:nvSpPr>
          <p:spPr>
            <a:xfrm>
              <a:off x="1490400" y="1700280"/>
              <a:ext cx="2808360" cy="936360"/>
            </a:xfrm>
            <a:prstGeom prst="wedgeRoundRectCallout">
              <a:avLst>
                <a:gd name="adj1" fmla="val -59439"/>
                <a:gd name="adj2" fmla="val 306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下图中正方形的边长是多少呢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28" name="图片 23558" descr="67"/>
            <p:cNvPicPr/>
            <p:nvPr/>
          </p:nvPicPr>
          <p:blipFill>
            <a:blip r:embed="rId1"/>
            <a:stretch/>
          </p:blipFill>
          <p:spPr>
            <a:xfrm>
              <a:off x="179280" y="1773360"/>
              <a:ext cx="112212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9" name="组合 23559"/>
          <p:cNvGrpSpPr/>
          <p:nvPr/>
        </p:nvGrpSpPr>
        <p:grpSpPr>
          <a:xfrm>
            <a:off x="684360" y="3860640"/>
            <a:ext cx="1831680" cy="2243880"/>
            <a:chOff x="684360" y="3860640"/>
            <a:chExt cx="1831680" cy="2243880"/>
          </a:xfrm>
        </p:grpSpPr>
        <p:pic>
          <p:nvPicPr>
            <p:cNvPr id="1530" name="图片 23560" descr="71"/>
            <p:cNvPicPr/>
            <p:nvPr/>
          </p:nvPicPr>
          <p:blipFill>
            <a:blip r:embed="rId2"/>
            <a:stretch/>
          </p:blipFill>
          <p:spPr>
            <a:xfrm>
              <a:off x="684360" y="3860640"/>
              <a:ext cx="18316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1" name="矩形 23561"/>
            <p:cNvSpPr/>
            <p:nvPr/>
          </p:nvSpPr>
          <p:spPr>
            <a:xfrm>
              <a:off x="1167840" y="570564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图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32" name="组合 23562"/>
          <p:cNvGrpSpPr/>
          <p:nvPr/>
        </p:nvGrpSpPr>
        <p:grpSpPr>
          <a:xfrm>
            <a:off x="3400560" y="4441680"/>
            <a:ext cx="3671640" cy="815400"/>
            <a:chOff x="3400560" y="4441680"/>
            <a:chExt cx="3671640" cy="815400"/>
          </a:xfrm>
        </p:grpSpPr>
        <p:sp>
          <p:nvSpPr>
            <p:cNvPr id="1533" name="TextBox 18"/>
            <p:cNvSpPr/>
            <p:nvPr/>
          </p:nvSpPr>
          <p:spPr>
            <a:xfrm>
              <a:off x="3400560" y="4660560"/>
              <a:ext cx="36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m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²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34" name="组合 23564"/>
            <p:cNvGrpSpPr/>
            <p:nvPr/>
          </p:nvGrpSpPr>
          <p:grpSpPr>
            <a:xfrm>
              <a:off x="3706560" y="4441680"/>
              <a:ext cx="510480" cy="815400"/>
              <a:chOff x="3706560" y="4441680"/>
              <a:chExt cx="510480" cy="815400"/>
            </a:xfrm>
          </p:grpSpPr>
          <p:sp>
            <p:nvSpPr>
              <p:cNvPr id="1535" name="文本框 23565"/>
              <p:cNvSpPr/>
              <p:nvPr/>
            </p:nvSpPr>
            <p:spPr>
              <a:xfrm>
                <a:off x="3712320" y="47973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6" name="文本框 23566"/>
              <p:cNvSpPr/>
              <p:nvPr/>
            </p:nvSpPr>
            <p:spPr>
              <a:xfrm>
                <a:off x="3706560" y="44416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7" name="直接连接符 23567"/>
              <p:cNvSpPr/>
              <p:nvPr/>
            </p:nvSpPr>
            <p:spPr>
              <a:xfrm>
                <a:off x="3750480" y="4861080"/>
                <a:ext cx="25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38" name="组合 23568"/>
          <p:cNvGrpSpPr/>
          <p:nvPr/>
        </p:nvGrpSpPr>
        <p:grpSpPr>
          <a:xfrm>
            <a:off x="3059280" y="2781360"/>
            <a:ext cx="5662440" cy="1942560"/>
            <a:chOff x="3059280" y="2781360"/>
            <a:chExt cx="5662440" cy="1942560"/>
          </a:xfrm>
        </p:grpSpPr>
        <p:sp>
          <p:nvSpPr>
            <p:cNvPr id="1539" name="AutoShape 27"/>
            <p:cNvSpPr/>
            <p:nvPr/>
          </p:nvSpPr>
          <p:spPr>
            <a:xfrm>
              <a:off x="3059280" y="2781360"/>
              <a:ext cx="4066920" cy="937800"/>
            </a:xfrm>
            <a:prstGeom prst="wedgeRoundRectCallout">
              <a:avLst>
                <a:gd name="adj1" fmla="val 56439"/>
                <a:gd name="adj2" fmla="val -9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可以把图中的正方形看成两个三角形，它的底和高分别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……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40" name="图片 23570" descr="68"/>
            <p:cNvPicPr/>
            <p:nvPr/>
          </p:nvPicPr>
          <p:blipFill>
            <a:blip r:embed="rId3"/>
            <a:stretch/>
          </p:blipFill>
          <p:spPr>
            <a:xfrm>
              <a:off x="7091280" y="2925720"/>
              <a:ext cx="1630440" cy="1798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42" name="Object 25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43" name="TextBox 34"/>
          <p:cNvSpPr/>
          <p:nvPr/>
        </p:nvSpPr>
        <p:spPr>
          <a:xfrm>
            <a:off x="2244600" y="3033720"/>
            <a:ext cx="39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左图：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r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14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r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86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r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²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4" name="TextBox 39"/>
          <p:cNvSpPr/>
          <p:nvPr/>
        </p:nvSpPr>
        <p:spPr>
          <a:xfrm>
            <a:off x="1093680" y="534348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答：左图中正方形与圆之间的面积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86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右图中圆与正方形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之间的面积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14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45" name="组合 24581"/>
          <p:cNvGrpSpPr/>
          <p:nvPr/>
        </p:nvGrpSpPr>
        <p:grpSpPr>
          <a:xfrm>
            <a:off x="324000" y="1700280"/>
            <a:ext cx="4897440" cy="1800000"/>
            <a:chOff x="324000" y="1700280"/>
            <a:chExt cx="4897440" cy="1800000"/>
          </a:xfrm>
        </p:grpSpPr>
        <p:sp>
          <p:nvSpPr>
            <p:cNvPr id="1546" name="AutoShape 27"/>
            <p:cNvSpPr/>
            <p:nvPr/>
          </p:nvSpPr>
          <p:spPr>
            <a:xfrm>
              <a:off x="1692360" y="1700280"/>
              <a:ext cx="3529080" cy="934920"/>
            </a:xfrm>
            <a:prstGeom prst="wedgeRoundRectCallout">
              <a:avLst>
                <a:gd name="adj1" fmla="val -55625"/>
                <a:gd name="adj2" fmla="val 1859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那么我们解答得对不对呢？有什么方法验证吗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47" name="图片 24583" descr="67"/>
            <p:cNvPicPr/>
            <p:nvPr/>
          </p:nvPicPr>
          <p:blipFill>
            <a:blip r:embed="rId2"/>
            <a:stretch/>
          </p:blipFill>
          <p:spPr>
            <a:xfrm>
              <a:off x="324000" y="1700280"/>
              <a:ext cx="112248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8" name="组合 24584"/>
          <p:cNvGrpSpPr/>
          <p:nvPr/>
        </p:nvGrpSpPr>
        <p:grpSpPr>
          <a:xfrm>
            <a:off x="3564000" y="1557360"/>
            <a:ext cx="5123880" cy="1279440"/>
            <a:chOff x="3564000" y="1557360"/>
            <a:chExt cx="5123880" cy="1279440"/>
          </a:xfrm>
        </p:grpSpPr>
        <p:pic>
          <p:nvPicPr>
            <p:cNvPr id="1549" name="Picture 16" descr="女天使"/>
            <p:cNvPicPr/>
            <p:nvPr/>
          </p:nvPicPr>
          <p:blipFill>
            <a:blip r:embed="rId3"/>
            <a:stretch/>
          </p:blipFill>
          <p:spPr>
            <a:xfrm>
              <a:off x="7164000" y="1557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AutoShape 27"/>
            <p:cNvSpPr/>
            <p:nvPr/>
          </p:nvSpPr>
          <p:spPr>
            <a:xfrm>
              <a:off x="3564000" y="1701720"/>
              <a:ext cx="3568320" cy="936720"/>
            </a:xfrm>
            <a:prstGeom prst="wedgeRoundRectCallout">
              <a:avLst>
                <a:gd name="adj1" fmla="val 56004"/>
                <a:gd name="adj2" fmla="val 276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如果两个圆的半径都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r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，结果又是怎样的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51" name="组合 24587"/>
          <p:cNvGrpSpPr/>
          <p:nvPr/>
        </p:nvGrpSpPr>
        <p:grpSpPr>
          <a:xfrm>
            <a:off x="2233440" y="3390840"/>
            <a:ext cx="6095880" cy="815400"/>
            <a:chOff x="2233440" y="3390840"/>
            <a:chExt cx="6095880" cy="815400"/>
          </a:xfrm>
        </p:grpSpPr>
        <p:sp>
          <p:nvSpPr>
            <p:cNvPr id="1552" name="TextBox 35"/>
            <p:cNvSpPr/>
            <p:nvPr/>
          </p:nvSpPr>
          <p:spPr>
            <a:xfrm>
              <a:off x="2233440" y="3624120"/>
              <a:ext cx="609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右图：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.14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r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²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－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（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r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r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14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r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²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53" name="组合 24589"/>
            <p:cNvGrpSpPr/>
            <p:nvPr/>
          </p:nvGrpSpPr>
          <p:grpSpPr>
            <a:xfrm>
              <a:off x="4541400" y="3390840"/>
              <a:ext cx="511200" cy="815400"/>
              <a:chOff x="4541400" y="3390840"/>
              <a:chExt cx="511200" cy="815400"/>
            </a:xfrm>
          </p:grpSpPr>
          <p:sp>
            <p:nvSpPr>
              <p:cNvPr id="1554" name="文本框 24590"/>
              <p:cNvSpPr/>
              <p:nvPr/>
            </p:nvSpPr>
            <p:spPr>
              <a:xfrm>
                <a:off x="4547520" y="374652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5" name="文本框 24591"/>
              <p:cNvSpPr/>
              <p:nvPr/>
            </p:nvSpPr>
            <p:spPr>
              <a:xfrm>
                <a:off x="4541400" y="3390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6" name="直接连接符 24592"/>
              <p:cNvSpPr/>
              <p:nvPr/>
            </p:nvSpPr>
            <p:spPr>
              <a:xfrm>
                <a:off x="4585680" y="381024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57" name="组合 24593"/>
          <p:cNvGrpSpPr/>
          <p:nvPr/>
        </p:nvGrpSpPr>
        <p:grpSpPr>
          <a:xfrm>
            <a:off x="395280" y="3860640"/>
            <a:ext cx="4824360" cy="1279440"/>
            <a:chOff x="395280" y="3860640"/>
            <a:chExt cx="4824360" cy="1279440"/>
          </a:xfrm>
        </p:grpSpPr>
        <p:pic>
          <p:nvPicPr>
            <p:cNvPr id="1558" name="Picture 19" descr="女天使副本"/>
            <p:cNvPicPr/>
            <p:nvPr/>
          </p:nvPicPr>
          <p:blipFill>
            <a:blip r:embed="rId4"/>
            <a:stretch/>
          </p:blipFill>
          <p:spPr>
            <a:xfrm>
              <a:off x="395280" y="386064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AutoShape 27"/>
            <p:cNvSpPr/>
            <p:nvPr/>
          </p:nvSpPr>
          <p:spPr>
            <a:xfrm>
              <a:off x="2052360" y="4149360"/>
              <a:ext cx="3167280" cy="936720"/>
            </a:xfrm>
            <a:prstGeom prst="wedgeRoundRectCallout">
              <a:avLst>
                <a:gd name="adj1" fmla="val -58370"/>
                <a:gd name="adj2" fmla="val 1135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当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r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时，和前面的结果完全一致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知识应用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1" name="TextBox 7"/>
          <p:cNvSpPr/>
          <p:nvPr/>
        </p:nvSpPr>
        <p:spPr>
          <a:xfrm>
            <a:off x="785880" y="2357280"/>
            <a:ext cx="54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右图是一面我国唐代外圆内方的铜镜。铜镜的直径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4.8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外面的圆与内部的正方形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之间的面积是多少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2" name="TextBox 12"/>
          <p:cNvSpPr/>
          <p:nvPr/>
        </p:nvSpPr>
        <p:spPr>
          <a:xfrm>
            <a:off x="900000" y="512928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答：外面的圆与内部的正方形之间的面积约是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75.3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cm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3" name="矩形 13"/>
          <p:cNvSpPr/>
          <p:nvPr/>
        </p:nvSpPr>
        <p:spPr>
          <a:xfrm>
            <a:off x="1619280" y="4076640"/>
            <a:ext cx="796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.14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4.8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75.2864                                                      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                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75.3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cm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²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            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4" name="TextBox 1"/>
          <p:cNvSpPr/>
          <p:nvPr/>
        </p:nvSpPr>
        <p:spPr>
          <a:xfrm>
            <a:off x="324000" y="1484280"/>
            <a:ext cx="388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解决问题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65" name="图片 25606" descr="72"/>
          <p:cNvPicPr/>
          <p:nvPr/>
        </p:nvPicPr>
        <p:blipFill>
          <a:blip r:embed="rId1"/>
          <a:stretch/>
        </p:blipFill>
        <p:spPr>
          <a:xfrm>
            <a:off x="6372360" y="2205000"/>
            <a:ext cx="141768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知识应用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7" name="TextBox 1"/>
          <p:cNvSpPr/>
          <p:nvPr/>
        </p:nvSpPr>
        <p:spPr>
          <a:xfrm>
            <a:off x="324000" y="1484280"/>
            <a:ext cx="45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生活中的数学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68" name="ShockwaveFlash1" descr=""/>
          <p:cNvPicPr/>
          <p:nvPr/>
        </p:nvPicPr>
        <p:blipFill>
          <a:blip r:embed="rId1"/>
          <a:stretch/>
        </p:blipFill>
        <p:spPr>
          <a:xfrm>
            <a:off x="1566720" y="2133720"/>
            <a:ext cx="5884920" cy="4414680"/>
          </a:xfrm>
          <a:prstGeom prst="rect">
            <a:avLst/>
          </a:prstGeom>
          <a:ln w="0">
            <a:noFill/>
          </a:ln>
        </p:spPr>
      </p:pic>
      <p:pic>
        <p:nvPicPr>
          <p:cNvPr id="1569" name="图片 26628" descr=""/>
          <p:cNvPicPr/>
          <p:nvPr/>
        </p:nvPicPr>
        <p:blipFill>
          <a:blip r:embed="rId2"/>
          <a:stretch/>
        </p:blipFill>
        <p:spPr>
          <a:xfrm>
            <a:off x="1547640" y="2114640"/>
            <a:ext cx="5915160" cy="4457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8:54Z</dcterms:modified>
  <cp:revision>3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